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8B78-7A38-4D53-BE9E-AC460169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6D57-86A8-4FB4-8429-7206D519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90B7-16BB-4EC8-8FAA-476EEA15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4867-3DAE-4B29-9458-7DA5B90F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AE5-042D-4745-AFC1-BDEF6AE3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B424-57C0-407E-8FCA-329DDEFC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F3CA-C30C-49B6-9807-30CDB6E2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3B17-F121-4306-AE4B-4AF0A4AF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B932-76C5-4588-AC42-94F0F5C3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7BFF-8DB5-4818-B471-18C36EC9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5E7F-4776-4F25-B457-50AFB05F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B61-3756-42BC-9D44-7A8D62D7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A037-9B37-45D0-972E-A77F42395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ZZAZION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1640" y="4076280"/>
            <a:ext cx="655308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5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499400">
            <a:off x="0" y="691920"/>
            <a:ext cx="4224240" cy="1035000"/>
          </a:xfrm>
          <a:prstGeom prst="rightArrow">
            <a:avLst>
              <a:gd name="adj1" fmla="val 50000"/>
              <a:gd name="adj2" fmla="val 102035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miglioramento dei mezzi di comunic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496600">
            <a:off x="0" y="3212640"/>
            <a:ext cx="4248000" cy="1224000"/>
          </a:xfrm>
          <a:prstGeom prst="rightArrow">
            <a:avLst>
              <a:gd name="adj1" fmla="val 50000"/>
              <a:gd name="adj2" fmla="val 8676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miglioramento dei mezzi di trasp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842920" y="3284640"/>
            <a:ext cx="1655640" cy="165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508360" y="3357720"/>
            <a:ext cx="2156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5013360"/>
            <a:ext cx="2521080" cy="36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uzio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4653000"/>
            <a:ext cx="2521080" cy="57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Black"/>
              </a:rPr>
              <a:t>Stili di vita piu’ omogen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95280" y="3284640"/>
            <a:ext cx="1368360" cy="23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00360" y="5661000"/>
            <a:ext cx="309708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 circolazione m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67640" y="3573360"/>
            <a:ext cx="28908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5877000"/>
            <a:ext cx="3059280" cy="360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olazione di 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84720" y="2276640"/>
            <a:ext cx="381636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lobalizz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27640" y="26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8243640" y="2565000"/>
            <a:ext cx="14436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80000" y="692280"/>
            <a:ext cx="2664000" cy="1224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igrazione e città multietni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8:07:29Z</dcterms:created>
  <dc:creator>studente</dc:creator>
  <dc:description/>
  <dc:language>en-US</dc:language>
  <cp:lastModifiedBy>studente</cp:lastModifiedBy>
  <dcterms:modified xsi:type="dcterms:W3CDTF">2016-12-05T07:56:59Z</dcterms:modified>
  <cp:revision>7</cp:revision>
  <dc:subject/>
  <dc:title>Diapositiva 1</dc:title>
</cp:coreProperties>
</file>